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7.jpeg" ContentType="image/jpeg"/>
  <Override PartName="/ppt/media/image6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media/image22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4.gif" ContentType="image/gif"/>
  <Override PartName="/ppt/media/image19.jpeg" ContentType="image/jpeg"/>
  <Override PartName="/ppt/media/image4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23.gif" ContentType="image/gi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F11-84EA-4DB2-9122-C244C89D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6F7-735A-4EB2-ADD3-F200E691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B2D-5BB3-409E-93DB-CE2EDCDA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EB3-0240-4585-BDC2-52A79B50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1997E-95A1-4EA3-9D6A-0B303E07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032A2-4129-4332-8D0A-7A4C465F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DF7BC-43CA-4003-B46B-0F3F1185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D2A2A-A9CA-47F8-818A-E96045B6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FB29A-AE0A-45C9-860C-1289755E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8AFE6-A9F1-4427-A056-07276FB3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58DFD-CE77-4333-9269-AA473C19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C5C-3948-4E8F-9ECA-C40E0296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27D8A-A7C1-40F0-9315-F9E1572C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89353-09EB-45F0-8FD7-9DA9F11C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22B49-8F5E-407D-9F43-B52A8848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ABEDE-682F-4920-B360-E92E02B2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016EA-0B36-44E7-A424-0A0DA462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668-C7FE-4596-A77C-5C0A0DF3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12B-8E36-4D70-80B8-0414D003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A1D-5631-44AB-9AEB-1610DFB2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140-370B-4C36-8810-0B735420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D73-A750-4F08-AE7F-63DFC491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7A7-5ACE-4CA3-A89E-F47812E6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758-96F1-4C4C-BB9B-9375954F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139F-BE72-47CA-8BDB-29B08716451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0C24-9F3A-4F3D-A933-86F7FD1F24D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5.png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5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4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3857760" cy="638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266840" y="2133720"/>
            <a:ext cx="69721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理解与尊重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63640" y="4365720"/>
            <a:ext cx="648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----</a:t>
            </a: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父母情 养育恩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8920" y="213372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理解与尊重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1304800">
            <a:off x="2050560" y="1628280"/>
            <a:ext cx="507960" cy="490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 rot="21304800">
            <a:off x="2987640" y="191592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 rot="21304800">
            <a:off x="6732720" y="400500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 rot="21304800">
            <a:off x="4572000" y="579096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 rot="21304800">
            <a:off x="2050920" y="609264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 rot="21304800">
            <a:off x="8172360" y="148392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 rot="16200000">
            <a:off x="5105520" y="39625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 rot="416400">
            <a:off x="2195640" y="37159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 rot="416400">
            <a:off x="5003640" y="2060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 rot="416400">
            <a:off x="8244000" y="2781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 rot="416400">
            <a:off x="8317080" y="333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 rot="18628800">
            <a:off x="7740720" y="47239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 rot="416400">
            <a:off x="8639280" y="472392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 rot="416400">
            <a:off x="3924360" y="39333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 rot="416400">
            <a:off x="6300720" y="119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 rot="416400">
            <a:off x="3203640" y="333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 rot="21304800">
            <a:off x="6084720" y="566064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 rot="21304800">
            <a:off x="324000" y="3715920"/>
            <a:ext cx="502920" cy="477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1"/>
          <a:stretch/>
        </p:blipFill>
        <p:spPr>
          <a:xfrm rot="416400">
            <a:off x="395280" y="544464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2"/>
          <a:stretch/>
        </p:blipFill>
        <p:spPr>
          <a:xfrm rot="18186600">
            <a:off x="3564000" y="16999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3"/>
          <a:stretch/>
        </p:blipFill>
        <p:spPr>
          <a:xfrm rot="416400">
            <a:off x="2843280" y="479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4"/>
          <a:stretch/>
        </p:blipFill>
        <p:spPr>
          <a:xfrm rot="416400">
            <a:off x="611280" y="126792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3640" y="1052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主 题 班 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45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看事例，作选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月，在深圳一家律师事务所工作的田世国，得知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67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岁的母亲刘玉环被确诊为尿毒症晚期，只能做肾脏移植手术，但与其血型相配的肾源非常稀少，费用非常昂贵，而且像刘玉环这样已经年过花甲的老人，肾移植手术的风险更大。母亲刘玉环在得知自己的病情后，为了不拖累儿女，坚决要求放弃治疗。经过血样检查，田世国和妹妹的血型都与母亲相配都适合给母亲捐肾。但医生告诉他们，捐一个肾脏虽然对今后的日常生活不会产生太大影响，可是一旦唯一的肾脏受到损害就危及生命，所以，他让田世国慎重抉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田世国面临这样的选择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A</a:t>
            </a: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00ff00"/>
                </a:solidFill>
                <a:latin typeface="Tahoma"/>
              </a:rPr>
              <a:t>听从母亲的意愿放弃治疗，或根据妹妹的请求，同意妹妹捐肾；自己在经济上给予帮助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00ff00"/>
                </a:solidFill>
                <a:latin typeface="Tahoma"/>
              </a:rPr>
              <a:t>将自己的肾捐给母亲，自己不仅在经济上支出较大，而且在身体上、事业上都可能会受到较大的影响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50920" y="-2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看事例，作选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54450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你以田世国的身份进行选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127944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ahoma"/>
              </a:rPr>
              <a:t>畅想故事结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A</a:t>
            </a: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田世国捐献肾脏后，他的生活是……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田世国不捐献肾脏，他的生活是……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127944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4428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中央电视台“感动中国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年度人物” 颁奖词是这样写的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谁言寸草心，报得三春晖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?”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这是一个被追问了千年的问题。一个儿子在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年用身体做出了自己的回答，他把生命的一部分回馈给病危的母亲。在温暖的谎话里，母亲的生命也许依然脆弱，但是孝子的真诚已经坚如磐石。田世国，让天下所有的母亲收获慰藉。</a:t>
            </a:r>
            <a:r>
              <a:rPr b="0" lang="zh-CN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3527280" cy="2565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076720" y="3789360"/>
            <a:ext cx="388800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-162000"/>
            <a:ext cx="9756720" cy="7080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71640" y="145656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了解父母各个方面（如：爸爸妈妈的工作是什么？辛苦吗？爸爸妈妈最喜欢吃的食物是什么、你了解爸爸妈妈的身体健康状况吗？你爸爸妈妈的生日是哪一天？）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②尊敬父母，对父母有礼貌，听从父母的正确教导，不当面顶撞父母，不和父母发脾气 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③生活节俭，无浪费现象，不乱花钱，不向父母提过高要求 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④帮父母做力所能及的家务，减轻父母负担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⑤有心事主动和父母说，经常与父母聊天（多和父母沟通）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⑥碰到一些比较重大的事情，要和父母商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征求和认真考虑父母的意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⑦外出时，在征得父母同意后，应把去向和时间告知父母（未成年人保护法）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⑧努力学好各门功课，经常主动向父母汇报自己在学校的学习生活情况，不让父母操心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⑨父母亲有做得不对的地方要诚恳的指出（实话实说）。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487440" y="393840"/>
            <a:ext cx="152100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学 一 学     做 一 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51160" y="907920"/>
            <a:ext cx="85068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辩一辩    出 误 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 rot="21398400">
            <a:off x="1547280" y="1773360"/>
            <a:ext cx="6985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他们的做法对吗</a:t>
            </a: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?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77080" y="4149720"/>
            <a:ext cx="1800360" cy="142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4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    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有一位成绩优秀的学生，父　母对他的期望很高，他自己对自己　的要求也很高，每天一回家就马上　学习。最近学校开展孝敬父母的活　动要求学生在家能帮助父母承担一　些家务劳动。但小林却说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:“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学习成　　绩优秀就是孝敬父母，其他都是多　余的。”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cc"/>
                </a:solidFill>
                <a:latin typeface="Tahoma"/>
              </a:rPr>
              <a:t>          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②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小刚是一名初一学生，在学校里活泼开朗，可回到家却不愿和父母讲在学校的事，有什么心事也不愿和父母讲，总是一个人独自呆在屋里。问他为什么，他说：“父母只会唠叨，和他们没什么好说的。”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 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6699ff"/>
                </a:solidFill>
                <a:latin typeface="Tahoma"/>
              </a:rPr>
              <a:t>          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在课堂上，老师批评现在社会上一些不赡养父母的错误行为。小明说：“等我工作后，每月都给父母生活费就行了。”只是每月给父母生活费就是孝敬父母吗？</a:t>
            </a:r>
            <a:r>
              <a:rPr b="1" lang="zh-CN" sz="2800" spc="-1" strike="noStrike">
                <a:solidFill>
                  <a:srgbClr val="6699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4608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游  子  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慈 母 手 中 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游 子 身 上 衣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   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临 行 密 密 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意 恐 迟 迟 归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　 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谁 言 寸 草 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报 得 三 春 晖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231600" y="404640"/>
            <a:ext cx="78984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吟   诗   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4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925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92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192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92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925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192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192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192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925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192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192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192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925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925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1925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1925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925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1925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1925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1925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925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92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192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192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3840" y="5181480"/>
            <a:ext cx="875016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213080" y="1628640"/>
            <a:ext cx="3672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再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281880" y="549360"/>
            <a:ext cx="13993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品 事 迹    说 体 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4280"/>
            <a:ext cx="7956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00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这天，湖北省江夏纸坊实验小学五年级的小红，如往常一样背着书包上学。她家住在江夏火车站附近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每天上学要穿越铁路。当时铁路上停着一列货车，小红钻进货车车底准备爬过去，不料，火车突然启动了……这一切都被不远处小红的母亲看见了，她飞奔过来，不顾一切地钻进火车底部，用身体护住女儿，火车从母女俩身上隆隆驶过！虽然母亲脚骨骨折，背部严重擦伤，但因为有了母亲的保护，女儿的命保住了。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8920" y="1766880"/>
            <a:ext cx="70563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 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、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2004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年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27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日下午，沈阳市五里河公园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岁的男孩童童掉进鲨鱼池。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35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岁的母亲刘燕当时也顾不上将手上的相机和肩上的背包放下，直接跳入鲨鱼池中将儿子救出。刘燕在接受采访时只说了一句话：“儿子就是妈妈的全部。”</a:t>
            </a:r>
            <a:r>
              <a:rPr b="0" lang="zh-CN" sz="4400" spc="-1" strike="noStrike">
                <a:solidFill>
                  <a:srgbClr val="00ff00"/>
                </a:solidFill>
                <a:latin typeface="Times New Roman"/>
              </a:rPr>
              <a:t> 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81880" y="692280"/>
            <a:ext cx="13993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品 事 迹    说 体 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10240" y="1150920"/>
            <a:ext cx="13993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听 心 愿   诉 心 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050920" y="1700280"/>
            <a:ext cx="6697800" cy="19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请同学们听听父母的心声</a:t>
            </a:r>
            <a:endParaRPr b="0" lang="en-US" sz="1800" spc="1" strike="noStrike">
              <a:ln w="0">
                <a:noFill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 rot="416400">
            <a:off x="3564000" y="544464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416400">
            <a:off x="3708360" y="429264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 rot="416400">
            <a:off x="684360" y="5373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416400">
            <a:off x="8388360" y="5157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 rot="21388800">
            <a:off x="6587640" y="1844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 rot="21304800">
            <a:off x="6084720" y="141264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 rot="20129400">
            <a:off x="4642920" y="1557000"/>
            <a:ext cx="574920" cy="546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 rot="21304800">
            <a:off x="3132000" y="594972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 rot="20112000">
            <a:off x="1258920" y="5041800"/>
            <a:ext cx="576360" cy="547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1"/>
          <a:stretch/>
        </p:blipFill>
        <p:spPr>
          <a:xfrm rot="21304800">
            <a:off x="1187280" y="549000"/>
            <a:ext cx="576360" cy="547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2"/>
          <a:stretch/>
        </p:blipFill>
        <p:spPr>
          <a:xfrm rot="20050800">
            <a:off x="6357960" y="4090680"/>
            <a:ext cx="576360" cy="547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3"/>
          <a:stretch/>
        </p:blipFill>
        <p:spPr>
          <a:xfrm rot="21304800">
            <a:off x="4932360" y="404280"/>
            <a:ext cx="503280" cy="47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4"/>
          <a:stretch/>
        </p:blipFill>
        <p:spPr>
          <a:xfrm rot="21304800">
            <a:off x="3564000" y="980640"/>
            <a:ext cx="576360" cy="547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5"/>
          <a:stretch/>
        </p:blipFill>
        <p:spPr>
          <a:xfrm rot="21304800">
            <a:off x="8388360" y="620280"/>
            <a:ext cx="503280" cy="47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6"/>
          <a:stretch/>
        </p:blipFill>
        <p:spPr>
          <a:xfrm rot="21304800">
            <a:off x="7956720" y="3933360"/>
            <a:ext cx="502920" cy="47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7"/>
          <a:stretch/>
        </p:blipFill>
        <p:spPr>
          <a:xfrm rot="21304800">
            <a:off x="7812000" y="602100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8"/>
          <a:stretch/>
        </p:blipFill>
        <p:spPr>
          <a:xfrm rot="21304800">
            <a:off x="5789160" y="371772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9"/>
          <a:stretch/>
        </p:blipFill>
        <p:spPr>
          <a:xfrm rot="21304800">
            <a:off x="4572000" y="450828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0"/>
          <a:stretch/>
        </p:blipFill>
        <p:spPr>
          <a:xfrm rot="21304800">
            <a:off x="2700360" y="4941360"/>
            <a:ext cx="503280" cy="478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1"/>
          <a:stretch/>
        </p:blipFill>
        <p:spPr>
          <a:xfrm rot="416400">
            <a:off x="3995640" y="148392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2"/>
          <a:stretch/>
        </p:blipFill>
        <p:spPr>
          <a:xfrm rot="328800">
            <a:off x="7524360" y="2060280"/>
            <a:ext cx="106668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3"/>
          <a:stretch/>
        </p:blipFill>
        <p:spPr>
          <a:xfrm rot="416400">
            <a:off x="2967120" y="3984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4"/>
          <a:stretch/>
        </p:blipFill>
        <p:spPr>
          <a:xfrm rot="416400">
            <a:off x="6948360" y="4365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5"/>
          <a:stretch/>
        </p:blipFill>
        <p:spPr>
          <a:xfrm rot="416400">
            <a:off x="5940360" y="50842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6"/>
          <a:stretch/>
        </p:blipFill>
        <p:spPr>
          <a:xfrm rot="19957800">
            <a:off x="655560" y="1663200"/>
            <a:ext cx="531720" cy="644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7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7578720" cy="8685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580000" y="5711760"/>
            <a:ext cx="2305080" cy="1298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5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-757080" y="-1467000"/>
            <a:ext cx="10550520" cy="832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150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rot="19609800">
            <a:off x="582480" y="1778040"/>
            <a:ext cx="720720" cy="787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-567360" y="476280"/>
            <a:ext cx="18262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诉    心    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58920" y="1413000"/>
            <a:ext cx="756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爸爸妈妈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我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_______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437080" y="4282920"/>
            <a:ext cx="3167280" cy="224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11280" y="3456000"/>
            <a:ext cx="4321080" cy="2606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3:42:55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19:23Z</dcterms:modified>
  <cp:revision>117</cp:revision>
  <dc:subject>主题班会课件(分28大类): http://shop62905894.taobao.com</dc:subject>
  <dc:title>主题班会课件(分28大类): http://shop62905894.taobao.com</dc:title>
</cp:coreProperties>
</file>